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12.jpeg" ContentType="image/jpeg"/>
  <Override PartName="/ppt/media/image4.pct" ContentType="image/x-pict"/>
  <Override PartName="/ppt/media/image5.pct" ContentType="image/x-pict"/>
  <Override PartName="/ppt/media/image11.jpeg" ContentType="image/jpeg"/>
  <Override PartName="/ppt/media/image6.pct" ContentType="image/x-pict"/>
  <Override PartName="/ppt/media/image7.pct" ContentType="image/x-pict"/>
  <Override PartName="/ppt/media/image10.jpeg" ContentType="image/jpeg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FE0-B6F0-4759-B487-4758EE03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22C-2FF9-4BF1-9C2A-424880DD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493-B7BD-4065-8EA6-9C2A4AD9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070-9B78-4592-8981-1C2D823C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2219-4FC2-49C7-A129-49C31B78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2E76-1742-443E-88D7-D5CD7E05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4C1B-56AF-4515-BCAD-7DC9EC9D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FFFC-E190-4745-A24D-4F431269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6DDE-8C8D-4111-AA88-F2B5675E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D9D7-59F2-4E84-BCB8-C729DA5B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87B3-D572-411B-BE76-09763B0C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54D-DD41-421E-A149-BBA84B56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632A-4F07-4E51-8097-E8D8597F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BEBE-0BA2-438F-AC76-AB3C61F4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598-EE17-46CD-B256-E063C4D9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32FE-5272-467D-8BE0-0C2504E1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4B7E-90BB-4E40-A9D9-43A3AAC6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8AA-62E8-47E1-9390-69D0EE7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A88-6481-481C-9EA4-51D3EB56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F6A-7AE1-4AE6-A689-1DA51F5A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731-500F-4D9B-8394-2E28C1C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6F5-0C5E-4420-ADCF-FABFBE10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F2E-F2CF-4256-B9BF-7D504D0E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39E-9BE2-460C-9B82-70658C4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2C51-1213-4EA5-BF62-7CE597449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AC9E-C50C-4261-BFA9-0520F5899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enetics &amp;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 for extra fingers &amp; toes is 1 out of 14 in Amish people but 1 out of 1000 for the rest of the U.S.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that disrupt a population’s 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flow - transport of genes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ng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lost from the gene pool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ividual leaves a population;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dded when an individual enter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5562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that disrupt a population’s 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3 mechanisms previously described primarily affect evolution of small, isolated gene pools (like those on islands) but their effect is often insignificant in larger, less isolated gene pools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that disrupt a population’s 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- the most significant factor that causes changes in established gene pools, whether they are large o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types of natural selection: stabilizing, directional, &amp; disru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ilizing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s the average individuals 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variation 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al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s individuals with one of the extreme variations of a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sult in rapid evolutionary change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305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ruptive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s individuals with either extreme of a traits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evolution of 2 distinct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8305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enetics &amp;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do not evolve but populations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when the frequency of alleles remains the same over generations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315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pool - All of the alleles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’s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038480" cy="397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190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 Frequency - percentage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llele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62360" y="503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46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pulation that is in genetic equilibrium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hat affects the genes in a gene pool can change allelic frequencies, which will disrupt a population’s genetic equilibrium and result in the process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that disrupt a population’s 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: introduce new alleles in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pool &amp; change alle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8382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that disrupt a population’s 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drift - alteration of alle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ies by ch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mainly in small populations that interbreed with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2:35:21Z</dcterms:created>
  <dc:creator>Clayton Johns</dc:creator>
  <dc:description/>
  <dc:language>en-US</dc:language>
  <cp:lastModifiedBy>NHS NPS</cp:lastModifiedBy>
  <dcterms:modified xsi:type="dcterms:W3CDTF">2014-03-21T15:45:14Z</dcterms:modified>
  <cp:revision>5</cp:revision>
  <dc:subject/>
  <dc:title>Population Genetics &amp; Evolution</dc:title>
</cp:coreProperties>
</file>